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6C466B-CC08-4394-973D-B163542F4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BB73B0-C956-4AD8-A557-DC2D1E827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0CBEC2-F1A3-4A3A-BF99-115588B217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E9F9AA-BC15-47A4-89A7-841E057399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D29BD-8497-4163-B50E-FE5D0B4D1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5ED0F-A7C6-4C9D-93CA-718F49D9B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2CD9C-6612-4EA2-8BF5-B537E8296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BBFA7-2DB3-4007-AF04-2A997FAD0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CC740-45C4-428F-B2CF-283F121FD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B4BE7-1793-4311-A537-EAF56B9EE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7E633-9081-4002-9BDA-1553AB407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DFEDD8-75CA-44B9-872C-552E3B20E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9F7BF-EDE9-40B9-BBEB-2BB9BA611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03686-8FF1-46FD-BD58-7E2D1A3CF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80446-71F0-42D5-905C-2B6131C45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E5261-34BB-4341-9314-A87FDAFE4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57861-7D6A-4390-BF33-1E5A2D121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DB011B-29D1-4D54-B157-B2C78779B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E0D2F6-EAB6-4C07-9F92-A5B38C8F3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1C8788-F73A-455B-B010-EB9C6C03BD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AF0406-AECD-46E8-A728-5F508D8F9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D60466-C320-4EB1-8DB2-A4F2AE1D2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FCE0E5-D66B-47B9-897C-95E77AF43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3EFCB0-BEAA-41A3-AB23-00B0A6D79E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BAE6-E151-423E-B734-981C243353EA}"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815B-1E56-4223-8BE1-53355D43E5BC}"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ÎMBRĂCĂMINTEA ROMANILOR</a:t>
            </a:r>
            <a:endParaRPr b="0" lang="en-US" sz="1600" spc="-1" strike="noStrike">
              <a:solidFill>
                <a:srgbClr val="ffffcc"/>
              </a:solidFill>
              <a:latin typeface="Tahoma"/>
            </a:endParaRPr>
          </a:p>
        </p:txBody>
      </p:sp>
      <p:sp>
        <p:nvSpPr>
          <p:cNvPr id="126" name="PlaceHolder 2"/>
          <p:cNvSpPr>
            <a:spLocks noGrp="1"/>
          </p:cNvSpPr>
          <p:nvPr>
            <p:ph type="subTitle"/>
          </p:nvPr>
        </p:nvSpPr>
        <p:spPr>
          <a:xfrm>
            <a:off x="1371600" y="3889440"/>
            <a:ext cx="6400800" cy="6840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Limba latină, clasa a IX-a</a:t>
            </a:r>
            <a:r>
              <a:rPr b="0" lang="ro-RO" sz="1000" spc="-1" strike="noStrike">
                <a:solidFill>
                  <a:srgbClr val="ffffff"/>
                </a:solidFill>
                <a:latin typeface="Arial"/>
              </a:rPr>
              <a:t>, Daniela Văduva, consultant principal I. Fischer)</a:t>
            </a:r>
            <a:endParaRPr b="0" lang="en-US" sz="1000" spc="-1" strike="noStrike">
              <a:solidFill>
                <a:srgbClr val="ffffff"/>
              </a:solidFill>
              <a:latin typeface="Tahoma"/>
            </a:endParaRPr>
          </a:p>
        </p:txBody>
      </p:sp>
      <p:sp>
        <p:nvSpPr>
          <p:cNvPr id="127"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ffffff"/>
              </a:solidFill>
              <a:latin typeface="Tahoma"/>
            </a:endParaRPr>
          </a:p>
        </p:txBody>
      </p:sp>
      <p:sp>
        <p:nvSpPr>
          <p:cNvPr id="129"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30" name="" descr=""/>
          <p:cNvPicPr/>
          <p:nvPr/>
        </p:nvPicPr>
        <p:blipFill>
          <a:blip r:embed="rId1">
            <a:grayscl/>
          </a:blip>
          <a:stretch/>
        </p:blipFill>
        <p:spPr>
          <a:xfrm>
            <a:off x="5148360" y="1484280"/>
            <a:ext cx="1439640" cy="18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odurile de existenţă ale frumosului. […]</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1.</a:t>
            </a:r>
            <a:r>
              <a:rPr b="0" lang="ro-RO" sz="1200" spc="-1" strike="noStrike">
                <a:solidFill>
                  <a:srgbClr val="ffffff"/>
                </a:solidFill>
                <a:latin typeface="Arial"/>
              </a:rPr>
              <a:t>	</a:t>
            </a:r>
            <a:r>
              <a:rPr b="0" lang="ro-RO" sz="1200" spc="-1" strike="noStrike">
                <a:solidFill>
                  <a:srgbClr val="ffffff"/>
                </a:solidFill>
                <a:latin typeface="Arial"/>
              </a:rPr>
              <a:t>Conjugaţi la toate modurile şi timpurile din tema de perfect, verbele de mai jos: </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excludo, -ere, -si, -su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stendo, -ere, -ndi, -su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udo, -are, -avi, -atum.</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ecunoaşteţi următoarele forme verbale şi traduceţi:</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enavissen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upivi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luera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gnoverimus;</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enerun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alutaveritis. […]</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mpletaţi propoziţiile următoare punând verbele la indicativ perfect. Traduceţi:</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aesar post pugnam Roma</a:t>
            </a:r>
            <a:r>
              <a:rPr b="0" lang="en-US" sz="1200" spc="-1" strike="noStrike">
                <a:solidFill>
                  <a:srgbClr val="ffffff"/>
                </a:solidFill>
                <a:latin typeface="Arial"/>
              </a:rPr>
              <a:t>m</a:t>
            </a:r>
            <a:r>
              <a:rPr b="0" lang="ro-RO" sz="1200" spc="-1" strike="noStrike">
                <a:solidFill>
                  <a:srgbClr val="ffffff"/>
                </a:solidFill>
                <a:latin typeface="Arial"/>
              </a:rPr>
              <a:t> venire.</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laudius ab adulescentia in villa habitare.</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omani longo bello Gallos vincere.</a:t>
            </a:r>
            <a:endParaRPr b="0" lang="en-US" sz="1200" spc="-1" strike="noStrike">
              <a:solidFill>
                <a:srgbClr val="ffffff"/>
              </a:solidFill>
              <a:latin typeface="Tahoma"/>
            </a:endParaRPr>
          </a:p>
        </p:txBody>
      </p:sp>
      <p:sp>
        <p:nvSpPr>
          <p:cNvPr id="132"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4b2</cp:lastModifiedBy>
  <dcterms:modified xsi:type="dcterms:W3CDTF">2012-06-19T10:58:09Z</dcterms:modified>
  <cp:revision>43</cp:revision>
  <dc:subject/>
  <dc:title>SALARIUL</dc:title>
</cp:coreProperties>
</file>